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F24B-F51B-4EB7-AA96-7305E72E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6558-74FB-447B-9A57-13F7CA16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5355-5894-42AD-95BB-EE4A7874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D9C4-D8DD-4FE1-9E6F-75C936CD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F1DE-C244-4161-9D7A-29929832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1CC9-DB68-4AD8-AB0D-40E00B61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1D64-2889-4D1F-BAC4-E170BD1E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9EF7-3490-436F-9AF5-C9CF265A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7315-D47C-4DCB-BE28-37C5521C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AD9-8113-41A5-A792-BDF9D97F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8129-7E99-4549-884F-AF40F814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4C49-5EB4-4180-9539-BCF6DDBD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CAB7-78CF-42D0-BCBE-89050040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0D3A-2C5A-4C3B-BA98-BC5D870B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21AD-F521-4660-B46E-0BD86367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B3F3-B447-4C67-A603-C83AB1CB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B269-FD5B-4C2A-9508-A65FDA6A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7C79-8B86-433A-8E8D-DF3ED485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A757-CF78-4F54-8BC5-E71EF314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035F-CD92-4FDF-9A47-8F1CE555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7F2A-8AC6-4CA1-9719-0AD61D24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108A-38C5-4B57-B5FC-FFDD391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9A8B-BFEB-41D2-95AF-EC261518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38A5-3C8D-4CA3-87E0-7CD2E308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2D3C-F770-447A-8393-144F75C406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2FE0-1B90-4E24-BCA6-B382DBE2F2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Teachers’ profil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rd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a, Gre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284360" y="836640"/>
            <a:ext cx="453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 is Aristi Koukourikou and I’m a school teacher. I’m teaching in the 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rade of the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imary school in Veria, Greece. I like my job very much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’m very much interested in literacy, local history and the environment. I’m also keen on politic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have a master degree in Teaching Language and I speak English, Italian and Serb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like surfing in the Internet, reading news and listening to the music. But most of all, I like visiting other countries and knowing their cul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a is a small town with a big history. I hope you enjoy its pictur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I’m not married! That’s the lif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7"/>
          <a:stretch/>
        </p:blipFill>
        <p:spPr>
          <a:xfrm>
            <a:off x="971640" y="1197000"/>
            <a:ext cx="30290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name is Vasilis Touliopoulos. I am a teacher. I work in the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imary School, in Veria. I live near the school, in the centre of the 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married to a teacher and I have an only son. He is nine years 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very much interested in computers and I like surfing into the N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my pleasure to join this project as a technical suppor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4648320" y="2346480"/>
            <a:ext cx="374004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439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 is Roula Tsitiridou. I am forty six years old. I’m married and I’ve got two children, a nineteen years old daughter and a son aged fifte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live in Veria. I am an English teacher. I have been working in the public sector for twenty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’m interested in political and religions matters. In my spare time I visit churches and I am currently conducting a research on a very old church in my ar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hobby is dancing and going long distance walks. I also like chatting with my frie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ould very much like to join this programme, in order to meet other civiliz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6"/>
          <a:stretch/>
        </p:blipFill>
        <p:spPr>
          <a:xfrm>
            <a:off x="5292720" y="1341360"/>
            <a:ext cx="30290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2:47:52Z</dcterms:created>
  <dc:creator>user</dc:creator>
  <dc:description/>
  <dc:language>en-US</dc:language>
  <cp:lastModifiedBy>user</cp:lastModifiedBy>
  <dcterms:modified xsi:type="dcterms:W3CDTF">2011-01-20T16:26:36Z</dcterms:modified>
  <cp:revision>6</cp:revision>
  <dc:subject/>
  <dc:title>Teachers’ profile</dc:title>
</cp:coreProperties>
</file>